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CC5-E35A-4AC3-B74E-4FF09C4B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7EE-7B3E-4293-9BD3-62FE2D7D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3B1-0A36-49BA-8CBA-6A1BF3C1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63E-BF67-4BDD-835E-47D0C2F0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6E57-1F35-4417-AF7F-629DEE43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13B4-DA94-429D-835B-AD6EA2C7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D2DD-FB41-4B2F-BEBB-818F62CA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A78F-50C5-4DC3-AF0C-8D2ACF8A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8BED-9115-450D-9CFD-1FBA011F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8AC4-4547-4F62-8E24-BDA37B7C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2AD0-2586-4015-B2DE-6854A8E1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FE8-F5B0-4272-BEF3-8DFA2076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915B-B0F3-48D8-8D30-22246C3B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E47E-64C4-4B37-9842-AD88315E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B5E0-DD5F-4615-9A5D-92EDD94B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6FFE-A5B9-4D68-BC26-42C3EBF4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0E85-C176-41E0-9664-636EEA97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0D13-571C-48C9-BFCE-C31DF7F7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C3BA-7599-4A15-BBDE-929E19DC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BD9F-F098-47D6-8FE6-4A2F9383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6A51-B7EF-48EF-8BF7-892647A3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76C8-9228-4F9C-B5B4-BD2DA51E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F6F-81BF-40B3-A401-41CB5D08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10D2-B21B-47EA-9589-2F115201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C0AF1-A012-49CC-B3B1-92130AD3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C8CE-AE8E-4DAC-9DDB-513DC775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F0075-2541-4326-BDC7-CDEC028D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26EE-0D1D-4C08-8DA2-C6DD039F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860C-1AA5-4487-8163-9C52F443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A094-4DDF-47E8-B509-FBE6FA69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8A50E-1CC7-48AE-8E65-91C5F12D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C5DF0-1DD9-4EC7-BEAB-D2E3D4E1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00BB-A2E4-41C9-A3A1-83239EAE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679-33E0-41B9-860D-FBE8D2ED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54C7F-9F42-428B-9476-03180A3B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18FD0-B27E-4199-9A53-E1565AC6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B89F-BC90-4DDD-B39D-D9C10F8A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BD50-E684-42D2-BF55-B3030190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29F1C-5AFA-4CAD-9971-046767AC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A59E9-887B-4188-BE9F-C5B71012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CF38C-AD57-4B74-8415-42B8AA1E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49F5-2E8F-4892-B5E2-C09C5F1D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AE939-F3B4-431D-BEE9-86F64CBE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8E2E3-0958-49D7-A215-B494C20B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97C-3C08-4DD6-9B96-78FBC53A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94A91-97A6-434F-A415-9960FA7F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18AD4-0E8C-4DE2-BE09-50BF011D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DB580-F12F-45CC-81DF-2EC066D0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2E378-0BC2-4F86-B777-394603CF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C499A-0504-4820-B606-E3BA441F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36560-A108-4ADE-B8CD-5A56DF25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518EE-B358-4A39-859D-50D64FE1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628BA-A181-44E9-8DFF-2DD91259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EC80-E4AA-44EB-8FA8-C23D2A38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1E0E4-900C-41B8-AB0A-5C692307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8A6-0E5F-41B6-89B8-A48B43FF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34219-B354-497F-894B-877B2E5E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723-7117-4965-80C3-0F99EF94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4AE-E02F-4C41-8408-E3BDBDC8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2FC-BEC1-43E2-9409-893BDF7C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9579-74AD-4366-9B9D-94E89EE50DE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CB5E-B862-413F-B19A-43370FA74E2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6DD1-92A8-47D6-90FE-46D17DF48E5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60CA-644B-42A6-B550-0057B46290D6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4819-5EB3-45CC-BD3E-E8AAAA6BE08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5" descr=""/>
          <p:cNvPicPr/>
          <p:nvPr/>
        </p:nvPicPr>
        <p:blipFill>
          <a:blip r:embed="rId1"/>
          <a:stretch/>
        </p:blipFill>
        <p:spPr>
          <a:xfrm>
            <a:off x="2664000" y="1292400"/>
            <a:ext cx="6291000" cy="41083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7"/>
          <p:cNvSpPr/>
          <p:nvPr/>
        </p:nvSpPr>
        <p:spPr>
          <a:xfrm>
            <a:off x="3733920" y="4394160"/>
            <a:ext cx="914400" cy="10083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reaction between an acid and bas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roducts of a neutralization reaction are a salt and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H scale gives a measure of the concentration of positive hydrogen ions in a solutio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way of describing the acidic or basic strength of a solution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acidity of a solution can be expressed by using the pH sca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scale ranges from 0 to 1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ids range from 0 to 6, with 0 being the strongest ac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ses range from 8 to 14, with 14 being the strongest bas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re water, which is neither acid nor base, has a pH level of 7 or is neutr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0948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icators are substances that visibly show a change in the nature of a chemical syste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iversal indicator- an acid/base indicator that shows, by color, the pH of a substan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304920" y="3809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3657600" y="3809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467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30"/>
          <p:cNvGrpSpPr/>
          <p:nvPr/>
        </p:nvGrpSpPr>
        <p:grpSpPr>
          <a:xfrm>
            <a:off x="4038480" y="2133720"/>
            <a:ext cx="519120" cy="1447560"/>
            <a:chOff x="4038480" y="2133720"/>
            <a:chExt cx="519120" cy="1447560"/>
          </a:xfrm>
        </p:grpSpPr>
        <p:sp>
          <p:nvSpPr>
            <p:cNvPr id="251" name="AutoShape 10"/>
            <p:cNvSpPr/>
            <p:nvPr/>
          </p:nvSpPr>
          <p:spPr>
            <a:xfrm>
              <a:off x="4038480" y="2133720"/>
              <a:ext cx="519120" cy="1447560"/>
            </a:xfrm>
            <a:prstGeom prst="flowChartMagneticDisk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18"/>
            <p:cNvSpPr/>
            <p:nvPr/>
          </p:nvSpPr>
          <p:spPr>
            <a:xfrm>
              <a:off x="4142160" y="27259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3" name="Group 31" descr=""/>
          <p:cNvPicPr/>
          <p:nvPr/>
        </p:nvPicPr>
        <p:blipFill>
          <a:blip r:embed="rId2"/>
          <a:stretch/>
        </p:blipFill>
        <p:spPr>
          <a:xfrm>
            <a:off x="4559400" y="2120760"/>
            <a:ext cx="542880" cy="1476360"/>
          </a:xfrm>
          <a:prstGeom prst="rect">
            <a:avLst/>
          </a:prstGeom>
          <a:ln w="0">
            <a:noFill/>
          </a:ln>
        </p:spPr>
      </p:pic>
      <p:pic>
        <p:nvPicPr>
          <p:cNvPr id="254" name="Group 32" descr=""/>
          <p:cNvPicPr/>
          <p:nvPr/>
        </p:nvPicPr>
        <p:blipFill>
          <a:blip r:embed="rId3"/>
          <a:stretch/>
        </p:blipFill>
        <p:spPr>
          <a:xfrm>
            <a:off x="5095800" y="2120760"/>
            <a:ext cx="579600" cy="1476360"/>
          </a:xfrm>
          <a:prstGeom prst="rect">
            <a:avLst/>
          </a:prstGeom>
          <a:ln w="0">
            <a:noFill/>
          </a:ln>
        </p:spPr>
      </p:pic>
      <p:pic>
        <p:nvPicPr>
          <p:cNvPr id="255" name="Group 33" descr=""/>
          <p:cNvPicPr/>
          <p:nvPr/>
        </p:nvPicPr>
        <p:blipFill>
          <a:blip r:embed="rId4"/>
          <a:stretch/>
        </p:blipFill>
        <p:spPr>
          <a:xfrm>
            <a:off x="562608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56" name="Group 29" descr=""/>
          <p:cNvPicPr/>
          <p:nvPr/>
        </p:nvPicPr>
        <p:blipFill>
          <a:blip r:embed="rId5"/>
          <a:stretch/>
        </p:blipFill>
        <p:spPr>
          <a:xfrm>
            <a:off x="3492360" y="2120760"/>
            <a:ext cx="543240" cy="1476360"/>
          </a:xfrm>
          <a:prstGeom prst="rect">
            <a:avLst/>
          </a:prstGeom>
          <a:ln w="0">
            <a:noFill/>
          </a:ln>
        </p:spPr>
      </p:pic>
      <p:pic>
        <p:nvPicPr>
          <p:cNvPr id="257" name="Group 28" descr=""/>
          <p:cNvPicPr/>
          <p:nvPr/>
        </p:nvPicPr>
        <p:blipFill>
          <a:blip r:embed="rId6"/>
          <a:stretch/>
        </p:blipFill>
        <p:spPr>
          <a:xfrm>
            <a:off x="2975040" y="2120760"/>
            <a:ext cx="542880" cy="1476360"/>
          </a:xfrm>
          <a:prstGeom prst="rect">
            <a:avLst/>
          </a:prstGeom>
          <a:ln w="0">
            <a:noFill/>
          </a:ln>
        </p:spPr>
      </p:pic>
      <p:pic>
        <p:nvPicPr>
          <p:cNvPr id="258" name="Group 27" descr=""/>
          <p:cNvPicPr/>
          <p:nvPr/>
        </p:nvPicPr>
        <p:blipFill>
          <a:blip r:embed="rId7"/>
          <a:stretch/>
        </p:blipFill>
        <p:spPr>
          <a:xfrm>
            <a:off x="2475000" y="2120760"/>
            <a:ext cx="549360" cy="1476360"/>
          </a:xfrm>
          <a:prstGeom prst="rect">
            <a:avLst/>
          </a:prstGeom>
          <a:ln w="0">
            <a:noFill/>
          </a:ln>
        </p:spPr>
      </p:pic>
      <p:pic>
        <p:nvPicPr>
          <p:cNvPr id="259" name="Group 26" descr=""/>
          <p:cNvPicPr/>
          <p:nvPr/>
        </p:nvPicPr>
        <p:blipFill>
          <a:blip r:embed="rId8"/>
          <a:stretch/>
        </p:blipFill>
        <p:spPr>
          <a:xfrm>
            <a:off x="1981080" y="2120760"/>
            <a:ext cx="549360" cy="1476360"/>
          </a:xfrm>
          <a:prstGeom prst="rect">
            <a:avLst/>
          </a:prstGeom>
          <a:ln w="0">
            <a:noFill/>
          </a:ln>
        </p:spPr>
      </p:pic>
      <p:pic>
        <p:nvPicPr>
          <p:cNvPr id="260" name="Group 33" descr=""/>
          <p:cNvPicPr/>
          <p:nvPr/>
        </p:nvPicPr>
        <p:blipFill>
          <a:blip r:embed="rId9"/>
          <a:stretch/>
        </p:blipFill>
        <p:spPr>
          <a:xfrm>
            <a:off x="623556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61" name="Group 33" descr=""/>
          <p:cNvPicPr/>
          <p:nvPr/>
        </p:nvPicPr>
        <p:blipFill>
          <a:blip r:embed="rId10"/>
          <a:stretch/>
        </p:blipFill>
        <p:spPr>
          <a:xfrm>
            <a:off x="685152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62" name="Group 33" descr=""/>
          <p:cNvPicPr/>
          <p:nvPr/>
        </p:nvPicPr>
        <p:blipFill>
          <a:blip r:embed="rId11"/>
          <a:stretch/>
        </p:blipFill>
        <p:spPr>
          <a:xfrm>
            <a:off x="7461360" y="2120760"/>
            <a:ext cx="6285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33"/>
          <p:cNvGrpSpPr/>
          <p:nvPr/>
        </p:nvGrpSpPr>
        <p:grpSpPr>
          <a:xfrm>
            <a:off x="8082000" y="2133720"/>
            <a:ext cx="604800" cy="1447560"/>
            <a:chOff x="8082000" y="2133720"/>
            <a:chExt cx="604800" cy="1447560"/>
          </a:xfrm>
        </p:grpSpPr>
        <p:sp>
          <p:nvSpPr>
            <p:cNvPr id="264" name="AutoShape 14"/>
            <p:cNvSpPr/>
            <p:nvPr/>
          </p:nvSpPr>
          <p:spPr>
            <a:xfrm>
              <a:off x="8082000" y="2133720"/>
              <a:ext cx="604800" cy="1447560"/>
            </a:xfrm>
            <a:prstGeom prst="flowChartMagneticDisk">
              <a:avLst/>
            </a:prstGeom>
            <a:solidFill>
              <a:srgbClr val="9842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8202600" y="2725920"/>
              <a:ext cx="42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Group 26" descr=""/>
          <p:cNvPicPr/>
          <p:nvPr/>
        </p:nvPicPr>
        <p:blipFill>
          <a:blip r:embed="rId12"/>
          <a:stretch/>
        </p:blipFill>
        <p:spPr>
          <a:xfrm>
            <a:off x="1438200" y="2120760"/>
            <a:ext cx="55584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26"/>
          <p:cNvGrpSpPr/>
          <p:nvPr/>
        </p:nvGrpSpPr>
        <p:grpSpPr>
          <a:xfrm>
            <a:off x="914400" y="2133720"/>
            <a:ext cx="533520" cy="1447560"/>
            <a:chOff x="914400" y="2133720"/>
            <a:chExt cx="533520" cy="1447560"/>
          </a:xfrm>
        </p:grpSpPr>
        <p:sp>
          <p:nvSpPr>
            <p:cNvPr id="268" name="AutoShape 7"/>
            <p:cNvSpPr/>
            <p:nvPr/>
          </p:nvSpPr>
          <p:spPr>
            <a:xfrm>
              <a:off x="914400" y="2133720"/>
              <a:ext cx="533520" cy="1447560"/>
            </a:xfrm>
            <a:prstGeom prst="flowChartMagneticDisk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1020960" y="2725920"/>
              <a:ext cx="32004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0" name="Group 26" descr=""/>
          <p:cNvPicPr/>
          <p:nvPr/>
        </p:nvPicPr>
        <p:blipFill>
          <a:blip r:embed="rId13"/>
          <a:stretch/>
        </p:blipFill>
        <p:spPr>
          <a:xfrm>
            <a:off x="371520" y="2120760"/>
            <a:ext cx="555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blogs.scientificamerican.com/lab-rat/files/2012/09/628px-PH_scale.png"/>
          <p:cNvPicPr/>
          <p:nvPr/>
        </p:nvPicPr>
        <p:blipFill>
          <a:blip r:embed="rId1"/>
          <a:stretch/>
        </p:blipFill>
        <p:spPr>
          <a:xfrm>
            <a:off x="479520" y="0"/>
            <a:ext cx="718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987480" y="66600"/>
            <a:ext cx="6315120" cy="1238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80520" y="137160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wo or more elements or compounds may combine to form a more complex compound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  +  X  →    AX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2Mg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 +  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2(g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 →    2Mg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composi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single compound breaks down into its component parts or simpler compound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X  →   A  +  X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3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→    Ca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(g)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835200" y="-36360"/>
            <a:ext cx="6791040" cy="1109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-360" y="1295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ingle Replacement: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a more active element takes the place of another element in a compound and sets the less active one free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  +  BX  →    AX  +  B  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(aq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→    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(aq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Double Replacement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arts of two compounds switch places to form two new compounds. Two reactants yield two new produc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.  AB + XY ---&gt; AY + XB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NaCl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---&gt;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+ HCl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755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808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ids are chemicals in which the positive ion is a hydrogen at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Cl or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en mixed with water they produce a free hydrogen ion that combines with a water molecule to produce a hydronium io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+1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 acid is a substance that releases hydrogen ions when it breaks apart in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560"/>
            <a:ext cx="72388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te sou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act with metals to produce hydrog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2HCl + 2N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2NaCl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duct electricit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ses are substances in which the negative ion is an ion called hydroxide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(OH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example;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aOH, or KOH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d to make soap, household cleaners, fertilizers, and explosives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4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eel slippe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duct electri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times Caustic. That is they eat away at certain substances and they are irritating or damaging to ski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alt is a compound formed from the positive metal ions of a base and a negative nonmetal ion of an aci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Cl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re the product of a reaction between an acid and a base, along with wa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4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form crystals when in solid form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usually have a higher hardness because of their ionic bonding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 acid plus a base yields a salt and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Cl + 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NaCl + HO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Cl + 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NaCl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8:55:24Z</dcterms:created>
  <dc:creator>Pat and Tina Hayhurst</dc:creator>
  <dc:description/>
  <dc:language>en-US</dc:language>
  <cp:lastModifiedBy>Administrator</cp:lastModifiedBy>
  <dcterms:modified xsi:type="dcterms:W3CDTF">2014-04-22T17:01:28Z</dcterms:modified>
  <cp:revision>54</cp:revision>
  <dc:subject/>
  <dc:title>Acids, Bases, Salts and 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joewalker.com/teachers/hayhurst</vt:lpwstr>
  </property>
  <property fmtid="{D5CDD505-2E9C-101B-9397-08002B2CF9AE}" pid="9" name="LinkColor">
    <vt:r8>16711680</vt:r8>
  </property>
  <property fmtid="{D5CDD505-2E9C-101B-9397-08002B2CF9AE}" pid="10" name="MailAddress">
    <vt:lpwstr>Hayhurst1@aol.com</vt:lpwstr>
  </property>
  <property fmtid="{D5CDD505-2E9C-101B-9397-08002B2CF9AE}" pid="11" name="NavBtnPos">
    <vt:r8>4</vt:r8>
  </property>
  <property fmtid="{D5CDD505-2E9C-101B-9397-08002B2CF9AE}" pid="12" name="Other">
    <vt:lpwstr>Copyright (c) 1999-2000 Pat Hayhurst
Last Updated: 3/9/2000</vt:lpwstr>
  </property>
  <property fmtid="{D5CDD505-2E9C-101B-9397-08002B2CF9AE}" pid="13" name="OutputDir">
    <vt:lpwstr>C:\My Documents\Web Page at JW\fruitvale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255</vt:r8>
  </property>
</Properties>
</file>